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193-9D3B-4D80-88D3-A87AA7C1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276-85B6-4B3E-AF5E-AE8067D6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80E-6998-4852-A918-F3548023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8D8-CFBF-42FF-A3DF-DB7466CB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2A2-ADD7-4E02-AE8A-141AE204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C7C-9587-410B-B22C-6317A826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F75-54EF-4072-A414-CF5A916F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8C9A-423B-488E-B69C-06E867E6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3D5-FCE3-4063-A3E5-8C7D0B1D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288E-5A54-4155-B4C7-13150100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2C0-31D2-482E-90D1-30DF66FD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223-C0E2-41BB-9362-247F28B0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0904-CD2D-4FB2-9ECE-235E83F58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457200"/>
            <a:ext cx="160020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Arial"/>
              </a:rPr>
              <a:t>إنَ الروحَ يصلي فيكم بأَنّاتٍ لا توصَ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71960" y="0"/>
            <a:ext cx="59720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280"/>
            <a:ext cx="2895480" cy="76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</a:rPr>
              <a:t>روحُ الربِّ يُرَفرِفُ على الميا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04920"/>
            <a:ext cx="27432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إن الروحَ يشهدُ مع أرواحنا بأننا أبناءُ ا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7:12:06Z</dcterms:created>
  <dc:creator>HANI SAFI</dc:creator>
  <dc:description/>
  <dc:language>en-US</dc:language>
  <cp:lastModifiedBy>HANI SAFI</cp:lastModifiedBy>
  <dcterms:modified xsi:type="dcterms:W3CDTF">2003-05-30T11:27:51Z</dcterms:modified>
  <cp:revision>2</cp:revision>
  <dc:subject/>
  <dc:title>Slide 1</dc:title>
</cp:coreProperties>
</file>